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6.wmf" ContentType="image/x-wmf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1.jpeg" ContentType="image/jpeg"/>
  <Override PartName="/ppt/media/image13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gif" ContentType="image/gif"/>
  <Override PartName="/ppt/media/image28.jpeg" ContentType="image/jpeg"/>
  <Override PartName="/ppt/media/image16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4.jpeg" ContentType="image/jpeg"/>
  <Override PartName="/ppt/media/image26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AFE-7A12-486A-A04F-7DF99A32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8CD-2940-4388-B13E-2C4B31DF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253E6-5439-4A6B-B57C-BD74D395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89692-2798-4E45-816A-D00F4620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82F02-B328-4311-BD98-61D4FC6C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B7029-E675-4849-A4B0-B012EDE0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EA47A-F270-4EE9-9AF9-EE40423E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08528-25E1-4D80-9F10-8133FF3C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37AA0-9CA2-4046-AD08-2ED33D07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44024-AA68-409F-9929-CEAD4B4C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1B3A6-2C9C-43A0-91AE-49A3053F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3A8-63A1-41AA-AB86-71463978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DDA-DDD0-4A87-8344-B6A700D3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5EF9-7134-4E6C-9E5A-1E0CFEC8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1F58-DB04-465B-B0FC-E437BCFB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A588-8F93-4085-8D3B-6D7A3B79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4324-60D6-4012-9B85-B45A557E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FC71-BC0E-404B-A6A7-37A48ADB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79E8-5753-4E90-8E29-C646C953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5039-BBFF-4F95-B1B1-C73493D4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90A-57F1-4701-A159-6B7E84FF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ED61-549B-4AB8-993A-045B9418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4CB8-CBBD-4302-BC2B-91C7617C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AD7B-B38B-4894-98C4-1E3477A4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4CCE-18DD-4EEB-A9F1-26D05E23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4FC6-4681-46F7-AE3E-E4E2DE55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216D1-64F6-4790-9098-3B1FF767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79FB6-C9F5-47BD-A30C-7DDF9848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82486-C291-4188-B1EB-CDAF1EF8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A206-17D5-447F-9C7C-584753A6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F87BB-CC34-4C4F-AABB-B249BF8D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0DB-DC7D-4AB4-A932-26184D42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59860-B210-4DBE-8F19-BE048F79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444F6-BBA0-43F4-B794-B147DE49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6DB4D-ECB4-4B77-ACB4-C94B4712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D167E-BBAD-4124-889E-3E953F24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B50AA-5C8D-4C35-BE6D-562285F7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794F0-2206-4C1C-A481-69DF34F7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3435-3895-4C91-AFB9-ECBCC495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A9986-5D0A-445F-87C9-34B8A801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3AD7A-3693-4039-90A4-3EBEC4F2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DC2ED-F625-4696-8A30-D9D61171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061-38B0-4CF8-840C-0D79C875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9502F-5A25-4B8B-A9CA-024983A3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20199-A991-4317-AC06-1E564354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F488D-731C-48C5-B440-E5E6AD8A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53CE4-C961-46CB-AB26-4844396C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C1171-C713-4762-A30F-FD816509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61848-F73D-4399-85DC-87DF6C61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AD4E4-0F05-4960-8B13-F00B285B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8E6BE-6539-49DD-9F45-0408C54B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4C6F5-F7EF-4142-8641-9C0DA7D4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E910A-CE1B-42CC-BE64-4AA927BB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451-C3A6-4238-8CC4-8CDFCC3E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02C5B-347C-4E0E-B645-7DCE31A2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69F9F-3C97-47CE-93B7-7A5E779E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A9D96-0FE6-4476-B974-520196C8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B386F-485A-40BF-A0AA-AFA7E908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ED51A-348C-4EF1-9EDD-34B88EB7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2753D-83B5-4F6B-B693-640CBE22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A54C5-F2FA-4B97-822B-B28096E2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4D9DD-C184-4E79-9B87-38FF6595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06292-7CA1-4DD2-B89F-3FB0FB7A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63F33-3DC6-44CA-9A48-E34B80D5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D0C-2CAC-4F34-AC00-A0E7C1B8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4FD9E-C7B1-4683-A67B-33A026D3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4C046-E10D-4C99-BEF1-C8095C51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500C8-7001-4B92-84B2-80A07627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17090-5E5A-4D29-8858-9D57B9D2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A5096-FA46-42FF-B02D-99BE066D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2A9C6-92BB-45E6-85B5-0FBEFC28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C9E2A-8A64-46CA-9DC6-14E44820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DB566-141F-4A00-BFE7-C40168E0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B5FE6-8344-42C6-B4E5-9A4D0009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C01FB-DD9C-4FE9-A463-55565E77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A4F-FE04-46A9-85AC-F056E7BC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1119A-29D1-4232-86B5-13CE6EEF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89A0F-3F4C-42AC-B3EB-1BC678A2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3ED60-4179-451A-BF28-64B61F84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5D228-0C93-4ADD-BB3A-8F08CFB3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C0A3A-22C1-49D6-A6CF-3BB55EAD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DE9A6-1F43-4D4A-825A-62743936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9705D-F5FD-4CCD-9F11-272415B4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D7B91-EFFC-4DB2-BD30-5E917E78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08FC9-4818-4415-B521-BF4DA07B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B37BE-7FC8-43B3-AB42-A1A96235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8F4-4A79-4703-8720-FE9888E4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CBC5B-3AC9-4340-8CE4-C6DE1C8B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86D96-8E7E-45A2-9815-F4767850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28C82-F828-412D-9A44-27BB969A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60265-58BE-42DA-98C9-1B022440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AF496-8F8F-48D0-AA87-0B7A0484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F4269-7168-415A-B2D0-0AF9486D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3F1EF-D01F-4603-B048-41DC0BB2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85948-AA10-4150-83B5-100ABC74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8A3E3-DF85-47B6-9D7C-4F2C6138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A0282-252F-403E-B95E-5A1AAE0F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B8C-066A-42D3-B263-F024D556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2F4EB-C6C2-4BD2-A71C-C4FB6CAA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C3596-0304-4ECB-82AC-E7795B00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A323E-E4DA-498E-A7A4-BFFA0EAA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89D11-BE56-458F-983B-E283340B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CD80F-A509-4527-B0DE-8CCBDA19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185E6-ED9A-496D-8542-71B0B068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461E8-9405-4FD2-BBA3-7A975331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D85C7-75E4-4CEE-ABEF-E3E2ED03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C1C0D-DC73-43A0-A3E4-2FCF6140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D93C2-CBB5-4429-8EEA-C3F67094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5057-E789-4D54-B6CB-564F2DF2F7C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ECBE-82FE-428C-9051-1217EF34937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ED64-3CEB-4DAB-9356-1585C519AF6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B989-BE59-403C-88E2-1D04038A08F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E816-CE18-4E03-9A18-DC7DC63DC16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4386-E216-4525-855E-82E9014703C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1C2E-1315-43D0-88EA-CC3931FED9E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CA86-18E4-4A5E-AE51-FB31CE18923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B1FF-1DF2-43EA-84EA-AB737EB3E71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5667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Family +School +Work= My Lif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2" descr="C:\Documents and Settings\Florines Mendez\Local Settings\Temporary Internet Files\Content.IE5\33O30GFO\MC900412672[1].wmf"/>
          <p:cNvPicPr/>
          <p:nvPr/>
        </p:nvPicPr>
        <p:blipFill>
          <a:blip r:embed="rId2"/>
          <a:stretch/>
        </p:blipFill>
        <p:spPr>
          <a:xfrm>
            <a:off x="3200400" y="533520"/>
            <a:ext cx="291780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C:\Documents and Settings\Florines Mendez\Local Settings\Temporary Internet Files\Content.IE5\LHWDKXJB\MP900439409[1].jpg"/>
          <p:cNvPicPr/>
          <p:nvPr/>
        </p:nvPicPr>
        <p:blipFill>
          <a:blip r:embed="rId2"/>
          <a:stretch/>
        </p:blipFill>
        <p:spPr>
          <a:xfrm>
            <a:off x="4419720" y="1981080"/>
            <a:ext cx="3932280" cy="2880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Cambridge College.png"/>
          <p:cNvPicPr/>
          <p:nvPr/>
        </p:nvPicPr>
        <p:blipFill>
          <a:blip r:embed="rId3"/>
          <a:stretch/>
        </p:blipFill>
        <p:spPr>
          <a:xfrm>
            <a:off x="457200" y="2133720"/>
            <a:ext cx="3757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31" name="Content Placeholder 3" descr="The savings Bank.jpg"/>
          <p:cNvPicPr/>
          <p:nvPr/>
        </p:nvPicPr>
        <p:blipFill>
          <a:blip r:embed="rId2"/>
          <a:stretch/>
        </p:blipFill>
        <p:spPr>
          <a:xfrm>
            <a:off x="3124080" y="1447920"/>
            <a:ext cx="3191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lette Rond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orn and raised in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Dominican Republic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ankful to God toda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nd  everyda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3" descr="182256_493376671325_670156325_6633735_2785247_a.jpg"/>
          <p:cNvPicPr/>
          <p:nvPr/>
        </p:nvPicPr>
        <p:blipFill>
          <a:blip r:embed="rId2"/>
          <a:stretch/>
        </p:blipFill>
        <p:spPr>
          <a:xfrm>
            <a:off x="6019920" y="1447920"/>
            <a:ext cx="22860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Content Placeholder 3" descr="Mi familia.jpg"/>
          <p:cNvPicPr/>
          <p:nvPr/>
        </p:nvPicPr>
        <p:blipFill>
          <a:blip r:embed="rId2"/>
          <a:stretch/>
        </p:blipFill>
        <p:spPr>
          <a:xfrm>
            <a:off x="1447920" y="1752480"/>
            <a:ext cx="60958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ontent Placeholder 3" descr="My mother.jpg"/>
          <p:cNvPicPr/>
          <p:nvPr/>
        </p:nvPicPr>
        <p:blipFill>
          <a:blip r:embed="rId1"/>
          <a:stretch/>
        </p:blipFill>
        <p:spPr>
          <a:xfrm>
            <a:off x="2514600" y="1219320"/>
            <a:ext cx="3770280" cy="37242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2133720" y="54100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My Mother Daisy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9" name="Picture 2" descr="C:\Documents and Settings\Florines Mendez\Local Settings\Temporary Internet Files\Content.IE5\50DRHZHK\MP900446566[1].jpg"/>
          <p:cNvPicPr/>
          <p:nvPr/>
        </p:nvPicPr>
        <p:blipFill>
          <a:blip r:embed="rId2"/>
          <a:stretch/>
        </p:blipFill>
        <p:spPr>
          <a:xfrm>
            <a:off x="6477120" y="533520"/>
            <a:ext cx="205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1" name="Content Placeholder 3" descr="Anabelle.jpg"/>
          <p:cNvPicPr/>
          <p:nvPr/>
        </p:nvPicPr>
        <p:blipFill>
          <a:blip r:embed="rId2"/>
          <a:stretch/>
        </p:blipFill>
        <p:spPr>
          <a:xfrm>
            <a:off x="2819520" y="1523880"/>
            <a:ext cx="5567400" cy="4175280"/>
          </a:xfrm>
          <a:prstGeom prst="rect">
            <a:avLst/>
          </a:prstGeom>
          <a:ln w="0">
            <a:noFill/>
          </a:ln>
        </p:spPr>
      </p:pic>
      <p:sp>
        <p:nvSpPr>
          <p:cNvPr id="412" name="TextBox 4"/>
          <p:cNvSpPr/>
          <p:nvPr/>
        </p:nvSpPr>
        <p:spPr>
          <a:xfrm>
            <a:off x="3276720" y="5867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Anabell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3" name="Picture 2" descr="C:\Program Files\Microsoft Office\MEDIA\CAGCAT10\j0295241.gif"/>
          <p:cNvPicPr/>
          <p:nvPr/>
        </p:nvPicPr>
        <p:blipFill>
          <a:blip r:embed="rId3"/>
          <a:stretch/>
        </p:blipFill>
        <p:spPr>
          <a:xfrm>
            <a:off x="457200" y="1143000"/>
            <a:ext cx="18288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5" name="Content Placeholder 3" descr="Armando.jpg"/>
          <p:cNvPicPr/>
          <p:nvPr/>
        </p:nvPicPr>
        <p:blipFill>
          <a:blip r:embed="rId2"/>
          <a:stretch/>
        </p:blipFill>
        <p:spPr>
          <a:xfrm>
            <a:off x="1066680" y="1447920"/>
            <a:ext cx="2783160" cy="4174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My sister in law.jpg"/>
          <p:cNvPicPr/>
          <p:nvPr/>
        </p:nvPicPr>
        <p:blipFill>
          <a:blip r:embed="rId3"/>
          <a:stretch/>
        </p:blipFill>
        <p:spPr>
          <a:xfrm>
            <a:off x="4648320" y="14479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8" name="Content Placeholder 3" descr="Marcos.jpg"/>
          <p:cNvPicPr/>
          <p:nvPr/>
        </p:nvPicPr>
        <p:blipFill>
          <a:blip r:embed="rId2"/>
          <a:stretch/>
        </p:blipFill>
        <p:spPr>
          <a:xfrm>
            <a:off x="3141720" y="1554120"/>
            <a:ext cx="3012840" cy="45259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4"/>
          <p:cNvSpPr/>
          <p:nvPr/>
        </p:nvSpPr>
        <p:spPr>
          <a:xfrm>
            <a:off x="3657600" y="6172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Marco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1" name="Content Placeholder 3" descr="Carlos and Jose.jpg"/>
          <p:cNvPicPr/>
          <p:nvPr/>
        </p:nvPicPr>
        <p:blipFill>
          <a:blip r:embed="rId2"/>
          <a:stretch/>
        </p:blipFill>
        <p:spPr>
          <a:xfrm>
            <a:off x="1616040" y="1554120"/>
            <a:ext cx="6064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3" name="Content Placeholder 3" descr="Best Friend.jpg"/>
          <p:cNvPicPr/>
          <p:nvPr/>
        </p:nvPicPr>
        <p:blipFill>
          <a:blip r:embed="rId2"/>
          <a:stretch/>
        </p:blipFill>
        <p:spPr>
          <a:xfrm>
            <a:off x="1143000" y="1295280"/>
            <a:ext cx="3068640" cy="4091040"/>
          </a:xfrm>
          <a:prstGeom prst="rect">
            <a:avLst/>
          </a:prstGeom>
          <a:ln w="0">
            <a:noFill/>
          </a:ln>
        </p:spPr>
      </p:pic>
      <p:sp>
        <p:nvSpPr>
          <p:cNvPr id="424" name="TextBox 4"/>
          <p:cNvSpPr/>
          <p:nvPr/>
        </p:nvSpPr>
        <p:spPr>
          <a:xfrm>
            <a:off x="2595600" y="60199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ls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5" name="Picture 2" descr="C:\Documents and Settings\Florines Mendez\Local Settings\Temporary Internet Files\Content.IE5\33O30GFO\MP900227632[1].jpg"/>
          <p:cNvPicPr/>
          <p:nvPr/>
        </p:nvPicPr>
        <p:blipFill>
          <a:blip r:embed="rId3"/>
          <a:stretch/>
        </p:blipFill>
        <p:spPr>
          <a:xfrm>
            <a:off x="4495680" y="3962520"/>
            <a:ext cx="3657600" cy="2408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C:\Documents and Settings\Florines Mendez\Local Settings\Temporary Internet Files\Content.IE5\LHWDKXJB\MC900100240[1].wmf"/>
          <p:cNvPicPr/>
          <p:nvPr/>
        </p:nvPicPr>
        <p:blipFill>
          <a:blip r:embed="rId4"/>
          <a:stretch/>
        </p:blipFill>
        <p:spPr>
          <a:xfrm>
            <a:off x="6019920" y="0"/>
            <a:ext cx="2789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3:21:35Z</dcterms:created>
  <dc:creator>Valued Acer Customer</dc:creator>
  <dc:description/>
  <dc:language>en-US</dc:language>
  <cp:lastModifiedBy>Valued Acer Customer</cp:lastModifiedBy>
  <dcterms:modified xsi:type="dcterms:W3CDTF">2012-03-25T13:52:06Z</dcterms:modified>
  <cp:revision>1</cp:revision>
  <dc:subject/>
  <dc:title>Arlette Rondon    Information Literacy</dc:title>
</cp:coreProperties>
</file>